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29C-9719-4C99-BC7C-324D9F0B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E08-350E-4685-B9D4-F6E8AFCC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1E4-AF92-470D-BE77-61F68CFA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176-4A03-47DB-B92C-F0934786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7923-4C38-4832-8BD6-C98F86E6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610-5E0D-4913-8FB9-316E6D7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BE2A-302F-4879-8349-D509B4CE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EC66-7AFB-46B8-A28D-F17D4586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24AD-4F95-4E0A-822B-422943C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A5F-9CB6-4211-98D6-8165BF98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50F4-3EA0-47FA-9C05-86ECEC9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9AF-DF73-49CC-B91F-8B9F8AB7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F9DB-A6E2-4B92-AACE-9861EDC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A6A6-D88A-4BF3-88E1-98065C2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4310-593C-4A3E-8F8C-1A1CDDC7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BBEB-65C9-4704-B6AF-7641FBE2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86B4-C5C3-4A07-84A9-F7548FC8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797-F755-40F0-B571-4106339F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18B-6112-4FAD-8994-CDF6F037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BA3-6DCB-4E35-A7CA-43560AF0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19A-7262-43DB-8E5C-37290638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AE2-AA2B-4A04-B866-289B2CE6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9E5-75B6-4AFF-99EF-CA60640D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F63-0349-4CC7-A862-B07066C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A29A-7ECC-497A-83AB-148CD6BE8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40AB-46EE-48FE-9A26-EDEBBE983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r. Obama’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eat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tched the President’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wards, we made goa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our combined goa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d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my grandfather in New Yor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sew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jo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Las Ve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read and understand bett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ore Scienc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use a calculat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better writ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more experimen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park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owling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ore about my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better sw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b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to keep my community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75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5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our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an 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St. Louis, Misso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in the USA (born elsew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my new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you for reading our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7:02:04Z</dcterms:created>
  <dc:creator>Teacher PLMS</dc:creator>
  <dc:description/>
  <dc:language>en-US</dc:language>
  <cp:lastModifiedBy>Teacher PLMS</cp:lastModifiedBy>
  <dcterms:modified xsi:type="dcterms:W3CDTF">2009-09-11T16:52:30Z</dcterms:modified>
  <cp:revision>26</cp:revision>
  <dc:subject/>
  <dc:title>Goals</dc:title>
</cp:coreProperties>
</file>